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438-399D-4706-B085-2491197E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1CB-EDCA-4988-8299-192E3386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8C0-1C73-45B6-B1C6-2BE3A3E9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44C-7FDA-400B-8318-E9C4453B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C44-E444-4588-96A2-37466E87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8938-8864-4658-9927-B1B32C83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4FAA-42A3-45BA-8C6F-AB8BA19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CA9-2684-4DC9-9371-34AAB92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788B-DEBF-4097-938A-8F17949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6F20-ED41-4DF0-8E70-D84BC0A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7A4-7A71-476C-B0F7-A13E956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518-378F-4EDD-AC38-B5D8810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AFD-E3EF-492C-9093-98F59EF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C341-8EB3-464D-A78E-83A3A7AE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49B-251B-4A30-ADF8-D5153DA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4BB3-9C44-47A2-924F-90301F6B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A0B9-E72B-4638-B99C-4CEAA78D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FBF-FAFA-4490-AC4D-7B502C3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787-5557-4E60-A1B2-43924C1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7CA-D637-47DA-8FB0-C4C5BC2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D4D-23EE-48CE-A8F4-00034BE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2C0-0E45-49D2-90C8-DBD6CAD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6B5-EC62-4160-B5E4-540577B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D74-56BC-4308-B06A-1C511009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644-59D0-49FA-803E-BE1587DB68DB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0751-702B-4882-A2D4-EBD196D38911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626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Trebuchet MS"/>
              </a:rPr>
              <a:t>Indicazioni metodologiche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Trebuchet MS"/>
              </a:rPr>
              <a:t>per la conduzione dei gruppi di lavor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26888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tro di formazione e-tu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ebbra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8002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Trebuchet MS"/>
              </a:rPr>
              <a:t>Gli obiettivi dei gruppi di lavo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Progettazione Partecip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41912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levare criticità/attese dei partecipanti al grup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re gli ambiti di applicazione della pianificazione partecip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re gli strumenti adatti di applicazione di un approccio partecip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re le modalità di applicazione della progettazione partecip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re le modalità di diffusione delle buone prat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Modalità di lavoro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28 febbraio 2005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 pa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partecipanti ai gruppi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 fase di lavo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dividuazione attese dei partecipanti- lavoro a cop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 fase di lavo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dividuazione criticità e obiettivi da raggiungere, lavoro a sottogruppi con domande stimolo/carton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15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econda pa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contributi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a fase dei lavo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lavoro a sottogruppi/metodo intervista a coppia, individuazione progetti/ azioni da realizzare nel breve-medio-lungo 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a fase di lavo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ndividuazione degli attori coinvolti nella realizzazione delle 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en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intesi dei lavori, un rappresentante del gruppo espone  i risultati per condivi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La facilitazio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322360"/>
            <a:ext cx="83678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a facilitazione è un kit di attrezzi che serve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IUTARE I GRUPPI A LAVORARE ASSIEME IN UNA MANIERA EFFICIENTE, ORIENTATA AD UN RISULTATO, BASATA SU PASSI SUCCESS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ICURARE CHE OGNUNO ABBIA GLI STESSI DIRITTI E LE STESSE OPPORTUNITA’ DI PARLARE E INFLUENZARE IL RISUL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ICURARE CHE OGNI PRODOTTO DELLA DISCUSSIONE SIA VISUALIZZABILE E DISPONIBILE PER I PASSI SUCCESS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Le regole di fond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16000" y="1413000"/>
            <a:ext cx="8028000" cy="4570560"/>
            <a:chOff x="1116000" y="1413000"/>
            <a:chExt cx="8028000" cy="4570560"/>
          </a:xfrm>
        </p:grpSpPr>
        <p:sp>
          <p:nvSpPr>
            <p:cNvPr id="99" name=""/>
            <p:cNvSpPr/>
            <p:nvPr/>
          </p:nvSpPr>
          <p:spPr>
            <a:xfrm>
              <a:off x="1116000" y="1413000"/>
              <a:ext cx="80280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Approccio costruttivo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su contenuti e su modalità di lavo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Diversità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come arricchimento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e non come conflit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Orientamento al risultato/obiettivi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del gruppo e del Fo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Disponibilità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al confronto ed alla negozi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Pazienza e rispetto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delle diversità/confronto sui contenu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Comunicazione e trasparenza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fra promotori e partecipan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</a:rPr>
                <a:t>Rispetto degli orari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e delle fasi previ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  <a:ea typeface="Times New Roman"/>
                </a:rPr>
                <a:t>Equilibrio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ra scetticismo e ottim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99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6600"/>
                  </a:solidFill>
                  <a:latin typeface="Arial"/>
                  <a:ea typeface="Times New Roman"/>
                </a:rPr>
                <a:t>Evitare il “voglio tutto subito”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 partecipare al cambia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 algn="just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6000" y="4821120"/>
              <a:ext cx="60573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7280" indent="-287280" algn="just">
                <a:lnSpc>
                  <a:spcPct val="100000"/>
                </a:lnSpc>
                <a:spcBef>
                  <a:spcPts val="1063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1484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oinvolgimento vol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pertura, onestà, fidu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nclus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ssunzione di responsabilità da parte degli at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nformazione di base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utuo app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otenzia la maggiore crea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ecisioni consens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onsenso infor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ondivisione e distribuzione delle responsabilità di attu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acilitazione da parte di un soggetto indi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44280"/>
            <a:ext cx="9142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Il metodo per la costruzione del processo di dialo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con gli at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6633"/>
                </a:solidFill>
                <a:latin typeface="Arial"/>
              </a:rPr>
              <a:t>Chi è il facilitatore 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268280"/>
            <a:ext cx="83678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OMUNICATORE – CATALIZZATORE – NEGOZIATORE – MEDIATORE - MOTIVA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HA UN RUOLO NEUT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’ COMPETENTE - HA UNA BUONA CULTURA GENERALE- UN BUON LINGUAG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’ UN BUON PSICO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SA ASCOL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HA BUONE CAPACITA’ DI SIN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HA FIDUCIA E UNA VISIONE COSTRUT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’ GUARDIANO DELLE REG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’ IN GRADO DI IMPO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HA CAPACITA’ E DISPOSIZIONE A STABILIRE CONT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HA IDEE POSITIVE - HA PERSONALITA’ - E’FLESSI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’RISERVATO - E’CRE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fbf3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8496360" cy="863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2924280"/>
            <a:ext cx="11667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2:16:54Z</dcterms:created>
  <dc:creator>..</dc:creator>
  <dc:description/>
  <dc:language>en-US</dc:language>
  <cp:lastModifiedBy>Antonella Piccolo</cp:lastModifiedBy>
  <dcterms:modified xsi:type="dcterms:W3CDTF">2005-02-27T10:06:13Z</dcterms:modified>
  <cp:revision>9</cp:revision>
  <dc:subject/>
  <dc:title>Indicazioni metodologiche  per la conduzione dei gruppi di lavoro</dc:title>
</cp:coreProperties>
</file>